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C00-BC76-4BB3-B3BE-DC8EC9E7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D25-24E9-4015-A813-FC411374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1E4-FE25-4827-A8FB-0D7A30C6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F66-BE4E-4DC4-85FD-058D8D7B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9FF9-FD55-4115-BC0B-FEC5582C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7D1E-9A37-4AA7-9C97-97E6E15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07C-F862-4AB3-93F1-9231FC6B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5FA-BC4F-4ED9-8125-2BF5C8E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14A-1592-4DB6-BF61-6D041EDC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171F-E211-4F0C-A604-91937C5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826-01A7-4F8F-A7D6-0A740C2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D81-A4D9-4ED6-A679-A049C824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C69-DFCD-44BC-BDAA-622554E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DDB1-3298-483C-8308-B50812F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E0F8-B1A3-42A8-BC53-32E18963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C06B-53B6-4B60-8FE4-C2720D0C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DAD-E9C5-4585-AC5D-34AAF374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E1D-FC67-4838-A39F-51B9642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0BC-E9BA-4C11-A7F4-89336CD1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9ED-5AEB-4AFA-9446-61870B68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8A1-D621-4940-99A3-0CCE0F8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BF5-13E0-4A03-8CBF-C0974E23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70A-292A-4116-B1CA-292B5B03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092-CBCC-478E-9F15-37974C51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A64-C114-4FE2-8A19-193C415083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725D-088A-42EB-B8F0-7B67F29F3F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e w zdobywaniu wiedzy, umiejętności, doświadc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walifikacji na europejskim rynku p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ieranie innowacyjnych praktyk zawodowych na poziomie inn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iż poziom szkolnictwa wyższ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prawa stopnia przejrzystości i uznawalności kwalifikacji ora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ompetencji w tym nabytych w drodze kształc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zaformal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ka branżowych języków obcych oraz dziedzictwa kulturowego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ństw europejsk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łówne obszary działa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że i wymi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większenie dostępu do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noszenie kwalifikacji pracowni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prawa jakości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nie europejskiego wymiaru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ój poradnictwa zawodowego i dostępu do informacji zawodow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mobilnoś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młodzieży szkolnej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39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osób młodych pracowników i osób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zukujących pracy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2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ymiany doświadczeń dla nauczycieli, szkoleniowców,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radców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(D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finansowanie do 100 % kosztów uprawnionych (od 1 do 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- prioryt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dniesienie atrakcyjności i jakości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ój i wdrażanie wspólnych narzędzi i rozwiązań w dziedzinie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angażowanie do współpracy wszystkich osób/podmiotów zainteresowanych kształceniem i doskonaleniem zawodow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 ty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kół zawodowych i technicznych, ale również przedsiębiorstw, partnerów społecznych, decydentów z zakresu kształcenia i szkolenia zawodowego na szczeblu lokalnym, regionalnym i lub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ielostron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transferu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rzenie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2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3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Kto może składać wnios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szkoły zawodow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instytucje kształcenia ustawiczneg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firmy szkoleniow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rzedsiębiors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artnerzy społeczn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odmioty świadczące usługi doradztwa zawodowego i poradnic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non-pro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pozarzą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8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Transferu Innowacji - 14 marca 200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prawa jakości edukacji dorosłych i rozwój oferty edukacyjne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dorosłych poprzez współpracę europejską, w tym mobilnoś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dry i słuchacz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powiadanie na wyzwania edukacyjne związane ze starzeni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ę populacji w Europi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pewnianie alternatywnych możliwości dostępu do eduk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sobom dorosłym z defaworyzowanych grup społecznych oraz tym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óre nie uzysk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ego wykształcenia formal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912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to może uczestniczyć w programie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UNDTVI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ażda organizacja działająca w obszarze eduk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ób 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oby dorosł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 Programie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od 25 roku ży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w wieku 16-24 lata, które zakończyły alb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zerw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ształcenie formalne lub korzystają z oferty edukacyjnej dl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matyka programu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dstawowe umiejętnoś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ktywne obywatel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ęzyki ob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środowisko i zrównoważony rozwó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ztuka i k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drowie i zagadnienia konsumenc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rodzic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w więzien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6960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zykładow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ziałania programu GRUNDTVI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Wielostronn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(projekty na dużą skalę, służące opracowaniu innowacyjnych produktów edukacyjn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Partnerskie Grundtviga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ch celem jest rozszerzenie współpracy europejskiej pomiędzy mniejszymi organizacjami, mniej doświadczonymi we współpracy międzynarodowej, zajmującymi się edukacją dorosł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dywidualne wyjazdy szkoleniow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In-service Training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rants for Staf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ieci Grundtvi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31 stycznia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jekty 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sieci -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1 – Młodzież dla Eur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2 – Wolontariat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3 – Młodzi w świe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4 – Systemy wspierania 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5 – Wsparcie dla współpracy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ajowych – kilkumiesięcznych przedsięwzięć młodzieży o charakterze lokalnym  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K</cp:lastModifiedBy>
  <dcterms:modified xsi:type="dcterms:W3CDTF">2007-12-06T05:43:40Z</dcterms:modified>
  <cp:revision>1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965048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